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EF086-B8BC-417B-9A6A-0961C76E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3F494-9511-43F9-BCA5-414C8EF6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63591-E1BF-41A5-9F9A-D06A634A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B1156-6059-4859-8B15-6C6897EC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ECD1-A1C9-445B-BA4C-05DF1B85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49AD-77CA-4B01-8F36-2211C345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C51B-3161-4770-A063-70B6D6AD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27BB-2ADC-4E04-A517-8C822FD6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7FD4-7FA6-4B7F-BB67-50F9DFD1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CE64-9230-4D66-9E2E-BFAA66CA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265F-21B6-4750-9455-27119053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799B2-88FF-4778-8388-8FF8ED54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2DBB-D818-4837-B375-058BF4E2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A260-7F44-44DD-8BE6-6AEB5DB7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5B6A-BD29-4DF3-BC6C-8F6B13B0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30A9-DC1D-4686-B9AA-434E6EDA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5858-4BED-4C72-A519-9EDF689B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5E86F-8300-4499-9C3A-5CD82156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39D69-7F9A-4116-94D5-D7F86178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FCD43-347E-4D53-AA5B-F9413D89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1D730-2DAC-4F89-8964-BDE0EA7D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3D44F-04DA-47A3-A4F6-8442E78B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F4BF5-4404-44A1-B21D-C2495945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77291-900B-4DC9-AF74-A292551B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E06E-7416-44FC-924C-3012D1EB4E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1671-ACF6-49F6-95FE-158CC1A0E7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Sir, We Would See Jesu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rter 10, Lesson 1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 12:18-4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pages 139-14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Widow’s Mite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12:41-44;Luke 21;1-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alue of gift is not determined by its am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mportance is the spirit in which it is gi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ich gave out of their abun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idow gave out of her genero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should not give grudgingly or out of neces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loves a cheerful g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739160" y="520200"/>
            <a:ext cx="688428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e Sadducees Question Jesus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 12:18-27;Matt. 22:23-33;Luke 20:27-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dducees deny there is a resur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es wrote about laws of marriage when death occurs to a husb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dducees pose a difficult situation &amp; question to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f: there were 7 brothers &amp;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ok a wife &amp; died without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like manner, the 6 left no children &amp; died &amp; last of all the woman died al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39160" y="520200"/>
            <a:ext cx="688428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e Sadducees Question Jesus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 12:18-27;Matt. 22:23-33;Luke 20:27-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Question: In the resurrection, whose wife does she become? For all 7 had her as a w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answered: You are mistaken, not knowing the Scriptures, nor the power 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riage will not be needed in hea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es showed in the burning bush passage that the dead are rai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is not the God of the dead but the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dducees silen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 Scribe Questions Jesus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12:28-34;Matt. 22:34-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cribe or lawyer- one that is learned or skilled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w of M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cribe, tempting or trying Jesus, asked: “which is the great commandment in the Law 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answered: to put God first in heart, soul &amp; m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continued further: the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liken unto it, you shall love thy neighbor as thy 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 Scribe Questions Jesus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12:28-34;Matt. 22:34-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ice: Jesus didn’t say it was the greatest but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 foremost ) great commandment &amp; the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s like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summed up the entire Law of Commandments with these 2 pre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: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4 Commandments deal with our attitude toward God; the other 6 deal with our relationships to our fellow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: Did the scribe change his intention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Jesus Poses A Question</a:t>
            </a:r>
            <a:br>
              <a:rPr sz="39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 12: 35-37;Matt. 22: 41-46; Luke 20: 41-4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asked the Pharisees : “ What do you think of the Christ ? Whose Son is H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asked a fair question but couldn’t be explained without exposing their opposition to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quotes Psalm 110 : 1 where David reveals Christ to be his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arisees denied the divinity of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rgument of Jesus- how could David recognize Jesus as His Lord if He was only his s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e To The Scribes &amp; Pharise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k 12:38-40;Matt. 23:1-39; Luke 20:45-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had answered the Pharisees, the Sadducees, &amp; the Herodi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delivers a scathing condemnation to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disciples are there present in the temple to learn about the attitude of thes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exposes their hypocris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y do all their works to make show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y love the chief seats in the synagogu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y love to have men call them rabbi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e To The Scribes &amp; Pharise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k 12:38-40;Matt. 23:1-39; Luke 20:45-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speaks directly to the scribes &amp; Pharis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 times in Matthew 23, Jesus pronounces woe upon the scribes &amp; Pharis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woe means grief or dismay &amp; is intended to mean great calamity is in st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woes are meant to show the inconsistency &amp; hypocrisy of the scribes &amp; Pharis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hew 23:37-39 show that Jesus had compassion for his people even though they rejected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Widow’s Mite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12:41-44;Luke 21;1-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watched those who were contributing to the treas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13 chests shaped like trumpets in which religious &amp; benevolent contributions were pla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saw the rich put a lot of money in the ch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also saw the poor widow put in 2 mites ( small copper coins ) worth about 1 c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21:06:39Z</dcterms:created>
  <dc:creator>robert marshall</dc:creator>
  <dc:description/>
  <dc:language>en-US</dc:language>
  <cp:lastModifiedBy>robert marshall</cp:lastModifiedBy>
  <dcterms:modified xsi:type="dcterms:W3CDTF">2006-08-08T19:32:38Z</dcterms:modified>
  <cp:revision>6</cp:revision>
  <dc:subject/>
  <dc:title>Sir, We Would See Jes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6608235</vt:r8>
  </property>
  <property fmtid="{D5CDD505-2E9C-101B-9397-08002B2CF9AE}" pid="3" name="_AuthorEmail">
    <vt:lpwstr>robertdmarshall@bellsouth.net</vt:lpwstr>
  </property>
  <property fmtid="{D5CDD505-2E9C-101B-9397-08002B2CF9AE}" pid="4" name="_AuthorEmailDisplayName">
    <vt:lpwstr>Robert Marshall</vt:lpwstr>
  </property>
  <property fmtid="{D5CDD505-2E9C-101B-9397-08002B2CF9AE}" pid="5" name="_EmailSubject">
    <vt:lpwstr>Q10L11.ppt</vt:lpwstr>
  </property>
</Properties>
</file>